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31F-4423-40E5-BDFB-9966C22F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291654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18920" y="24976080"/>
            <a:ext cx="291654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5D6-D1B0-4EBF-949E-351AE232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8920" y="2497608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2497608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343-9FA9-402F-8076-361AD885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79680" y="1008396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1008396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18920" y="2497608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79680" y="2497608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2497608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BEE-8A31-4340-AF00-A02E2521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18920" y="10083960"/>
            <a:ext cx="29165400" cy="28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76"/>
              </a:spcBef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AA7-5B35-44CD-BA07-0E1AAB29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291654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597-E089-40BB-B105-1A26DC31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142326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10083960"/>
            <a:ext cx="142326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BAD-7D70-4D00-8E9D-FAB791D1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1D9-DABD-4E96-9D76-E8783271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8920" y="1728360"/>
            <a:ext cx="29165400" cy="333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76"/>
              </a:spcBef>
              <a:tabLst>
                <a:tab algn="l" pos="0"/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DDC-250E-4BC6-83A9-EE401319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10083960"/>
            <a:ext cx="142326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18920" y="2497608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B61-5B5D-4686-BCE5-259AB4B7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142326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2497608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1BB-5A35-4F7D-9F7F-5ED397DA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8920" y="24976080"/>
            <a:ext cx="291654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E65-7C91-4C61-8C58-AD21CE34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r>
              <a:rPr b="0" lang="en-US" sz="20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18920" y="10083960"/>
            <a:ext cx="291654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marL="1617840" indent="-161784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1" marL="3510000" indent="-134640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2" marL="5397480" indent="-107640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3" marL="7556400" indent="-107640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4" marL="9718560" indent="-10760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5" marL="9718560" indent="-10760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6" marL="9718560" indent="-10760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18920" y="40043160"/>
            <a:ext cx="7561080" cy="2303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lstStyle>
            <a:lvl1pPr indent="0">
              <a:buNone/>
              <a:tabLst>
                <a:tab algn="l" pos="0"/>
                <a:tab algn="l" pos="4316400"/>
                <a:tab algn="l" pos="8632800"/>
              </a:tabLst>
              <a:defRPr b="0" lang="zh-CN" sz="5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316400"/>
                <a:tab algn="l" pos="8632800"/>
              </a:tabLst>
            </a:pPr>
            <a:r>
              <a:rPr b="0" lang="zh-CN" sz="5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69280" y="40043160"/>
            <a:ext cx="10264680" cy="2303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8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40043160"/>
            <a:ext cx="7561080" cy="2303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lstStyle>
            <a:lvl1pPr indent="0" algn="r">
              <a:buNone/>
              <a:tabLst>
                <a:tab algn="l" pos="0"/>
                <a:tab algn="l" pos="4316400"/>
                <a:tab algn="l" pos="8632800"/>
              </a:tabLst>
              <a:defRPr b="0" lang="zh-CN" sz="5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316400"/>
                <a:tab algn="l" pos="8632800"/>
              </a:tabLst>
            </a:pPr>
            <a:fld id="{2853A517-4C68-49A8-AB9F-FCAA83595385}" type="slidenum">
              <a:rPr b="0" lang="zh-CN" sz="5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undo_poster"/>
          <p:cNvPicPr/>
          <p:nvPr/>
        </p:nvPicPr>
        <p:blipFill>
          <a:blip r:embed="rId1"/>
          <a:srcRect l="14642" t="2110" r="15530" b="21767"/>
          <a:stretch/>
        </p:blipFill>
        <p:spPr>
          <a:xfrm>
            <a:off x="3240" y="0"/>
            <a:ext cx="32400720" cy="4436892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1"/>
          <p:cNvSpPr/>
          <p:nvPr/>
        </p:nvSpPr>
        <p:spPr>
          <a:xfrm>
            <a:off x="4770360" y="40294080"/>
            <a:ext cx="7350120" cy="36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240" rIns="219240" tIns="109800" bIns="109800" anchor="ctr">
            <a:noAutofit/>
          </a:bodyPr>
          <a:p>
            <a:pPr algn="ctr">
              <a:tabLst>
                <a:tab algn="l" pos="0"/>
                <a:tab algn="l" pos="4316400"/>
                <a:tab algn="l" pos="8632800"/>
              </a:tabLst>
            </a:pPr>
            <a:endParaRPr b="0" lang="en-US" sz="8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m 2" descr=""/>
          <p:cNvPicPr/>
          <p:nvPr/>
        </p:nvPicPr>
        <p:blipFill>
          <a:blip r:embed="rId2"/>
          <a:stretch/>
        </p:blipFill>
        <p:spPr>
          <a:xfrm>
            <a:off x="5324400" y="40358880"/>
            <a:ext cx="6796080" cy="3232440"/>
          </a:xfrm>
          <a:prstGeom prst="rect">
            <a:avLst/>
          </a:prstGeom>
          <a:ln w="0">
            <a:noFill/>
          </a:ln>
        </p:spPr>
      </p:pic>
      <p:sp>
        <p:nvSpPr>
          <p:cNvPr id="44" name="Retângulo 2"/>
          <p:cNvSpPr/>
          <p:nvPr/>
        </p:nvSpPr>
        <p:spPr>
          <a:xfrm>
            <a:off x="720720" y="40294080"/>
            <a:ext cx="4049640" cy="26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6400"/>
                <a:tab algn="l" pos="8632800"/>
              </a:tabLst>
            </a:pPr>
            <a:endParaRPr b="0" lang="en-US" sz="8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1081080" y="40646520"/>
            <a:ext cx="351468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9:49:00Z</dcterms:created>
  <dc:creator>Jacky</dc:creator>
  <dc:description/>
  <dc:language>en-US</dc:language>
  <cp:lastModifiedBy>Vanessa Sales Machado</cp:lastModifiedBy>
  <dcterms:modified xsi:type="dcterms:W3CDTF">2015-04-14T15:51:10Z</dcterms:modified>
  <cp:revision>6</cp:revision>
  <dc:subject/>
  <dc:title>PowerPoint 演示文稿</dc:title>
</cp:coreProperties>
</file>