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01B-6CBA-4697-AF57-30EB2DEB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576-4283-484C-AB2F-E8D95E91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D9E-26B9-46B5-87AD-75662975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E89-C5AA-4A9A-A6B1-ED5210C6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142-E88D-4418-8425-19F1567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C9B-963B-416A-B2A1-091901ED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FC1-FD0F-4C77-B78A-CA33F5BF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1F1-D8D0-4A41-A47E-5BA2FC17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D83-34B1-4ADD-93A2-220FD952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579-1700-48A8-8EF4-84D1121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362-B87F-444E-B34E-68E40674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C2C-9F99-4BB2-9F8A-01944AD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764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48C-6D1D-4D07-93D5-D2317B6435D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7965-0E77-454A-8A07-9AC87086ED6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m 10" descr="fundo_ppt_imrea_alta.jpg"/>
          <p:cNvPicPr/>
          <p:nvPr/>
        </p:nvPicPr>
        <p:blipFill>
          <a:blip r:embed="rId2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tângulo 1"/>
          <p:cNvSpPr/>
          <p:nvPr/>
        </p:nvSpPr>
        <p:spPr>
          <a:xfrm>
            <a:off x="539640" y="0"/>
            <a:ext cx="936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139680"/>
            <a:ext cx="949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8:52:48Z</dcterms:created>
  <dc:creator>Silvia Yamamoto</dc:creator>
  <dc:description/>
  <dc:language>en-US</dc:language>
  <cp:lastModifiedBy>Vanessa Sales Machado</cp:lastModifiedBy>
  <dcterms:modified xsi:type="dcterms:W3CDTF">2015-04-14T15:49:38Z</dcterms:modified>
  <cp:revision>79</cp:revision>
  <dc:subject/>
  <dc:title>Apresentação do PowerPoint</dc:title>
</cp:coreProperties>
</file>