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404050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8955-2C27-475A-A9EE-DE5DD8DE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18920" y="10083960"/>
            <a:ext cx="291654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18920" y="24976080"/>
            <a:ext cx="291654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1E84-4C6B-4341-8B90-859EF3AB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18920" y="10083960"/>
            <a:ext cx="142326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3600" y="10083960"/>
            <a:ext cx="142326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18920" y="24976080"/>
            <a:ext cx="142326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3600" y="24976080"/>
            <a:ext cx="142326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33CD-B213-4249-824F-323BA03E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18920" y="10083960"/>
            <a:ext cx="939096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79680" y="10083960"/>
            <a:ext cx="939096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0800" y="10083960"/>
            <a:ext cx="939096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18920" y="24976080"/>
            <a:ext cx="939096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79680" y="24976080"/>
            <a:ext cx="939096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0800" y="24976080"/>
            <a:ext cx="939096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0E9C-B447-4025-AFA7-D25EB0E4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18920" y="10083960"/>
            <a:ext cx="29165400" cy="28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76"/>
              </a:spcBef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075F-D4C6-4801-B493-D2D40919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18920" y="10083960"/>
            <a:ext cx="29165400" cy="2851128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0266-7ADA-4C2C-AA03-98EF44E6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18920" y="10083960"/>
            <a:ext cx="14232600" cy="2851128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3600" y="10083960"/>
            <a:ext cx="14232600" cy="2851128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7024-7AE5-4A91-9EBD-C41A4078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769D-B890-450C-A5BA-CD8F20C1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8920" y="1728360"/>
            <a:ext cx="29165400" cy="333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76"/>
              </a:spcBef>
              <a:tabLst>
                <a:tab algn="l" pos="0"/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D43C-1253-4186-8F54-25DE882B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18920" y="10083960"/>
            <a:ext cx="142326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3600" y="10083960"/>
            <a:ext cx="14232600" cy="2851128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18920" y="24976080"/>
            <a:ext cx="142326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702F-5A56-43CC-8F91-EB4E6D3E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18920" y="10083960"/>
            <a:ext cx="14232600" cy="2851128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3600" y="10083960"/>
            <a:ext cx="142326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3600" y="24976080"/>
            <a:ext cx="142326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C869-AA7F-45B0-9A68-AB19DB6D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18920" y="10083960"/>
            <a:ext cx="142326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3600" y="10083960"/>
            <a:ext cx="142326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18920" y="24976080"/>
            <a:ext cx="291654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8B6B-9BBE-4394-AA20-1DDAE852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r>
              <a:rPr b="0" lang="en-US" sz="20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18920" y="10083960"/>
            <a:ext cx="29165400" cy="2851128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marL="1617840" indent="-1617840">
              <a:spcBef>
                <a:spcPts val="3776"/>
              </a:spcBef>
              <a:buClr>
                <a:srgbClr val="000000"/>
              </a:buClr>
              <a:buFont typeface="Arial"/>
              <a:buChar char="•"/>
              <a:tabLst>
                <a:tab algn="l" pos="4316400"/>
                <a:tab algn="l" pos="863280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1" marL="3510000" indent="-1346400">
              <a:spcBef>
                <a:spcPts val="3776"/>
              </a:spcBef>
              <a:buClr>
                <a:srgbClr val="000000"/>
              </a:buClr>
              <a:buFont typeface="Arial"/>
              <a:buChar char="–"/>
              <a:tabLst>
                <a:tab algn="l" pos="4316400"/>
                <a:tab algn="l" pos="863280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2" marL="5397480" indent="-1076400">
              <a:spcBef>
                <a:spcPts val="3776"/>
              </a:spcBef>
              <a:buClr>
                <a:srgbClr val="000000"/>
              </a:buClr>
              <a:buFont typeface="Arial"/>
              <a:buChar char="•"/>
              <a:tabLst>
                <a:tab algn="l" pos="4316400"/>
                <a:tab algn="l" pos="863280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3" marL="7556400" indent="-1076400">
              <a:spcBef>
                <a:spcPts val="3776"/>
              </a:spcBef>
              <a:buClr>
                <a:srgbClr val="000000"/>
              </a:buClr>
              <a:buFont typeface="Arial"/>
              <a:buChar char="–"/>
              <a:tabLst>
                <a:tab algn="l" pos="4316400"/>
                <a:tab algn="l" pos="863280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4" marL="9718560" indent="-10760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6400"/>
                <a:tab algn="l" pos="863280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5" marL="9718560" indent="-10760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6400"/>
                <a:tab algn="l" pos="863280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6" marL="9718560" indent="-10760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6400"/>
                <a:tab algn="l" pos="863280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18920" y="40043160"/>
            <a:ext cx="7561080" cy="230328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lstStyle>
            <a:lvl1pPr indent="0">
              <a:buNone/>
              <a:tabLst>
                <a:tab algn="l" pos="0"/>
                <a:tab algn="l" pos="4316400"/>
                <a:tab algn="l" pos="8632800"/>
              </a:tabLst>
              <a:defRPr b="0" lang="zh-CN" sz="5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316400"/>
                <a:tab algn="l" pos="8632800"/>
              </a:tabLst>
            </a:pPr>
            <a:r>
              <a:rPr b="0" lang="zh-CN" sz="5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69280" y="40043160"/>
            <a:ext cx="10264680" cy="230328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8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240" y="40043160"/>
            <a:ext cx="7561080" cy="230328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lstStyle>
            <a:lvl1pPr indent="0" algn="r">
              <a:buNone/>
              <a:tabLst>
                <a:tab algn="l" pos="0"/>
                <a:tab algn="l" pos="4316400"/>
                <a:tab algn="l" pos="8632800"/>
              </a:tabLst>
              <a:defRPr b="0" lang="zh-CN" sz="5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316400"/>
                <a:tab algn="l" pos="8632800"/>
              </a:tabLst>
            </a:pPr>
            <a:fld id="{EDFFDA10-775C-46BE-A025-9A7F21FD66C8}" type="slidenum">
              <a:rPr b="0" lang="zh-CN" sz="5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undo_poster"/>
          <p:cNvPicPr/>
          <p:nvPr/>
        </p:nvPicPr>
        <p:blipFill>
          <a:blip r:embed="rId1"/>
          <a:srcRect l="14642" t="2110" r="15530" b="21767"/>
          <a:stretch/>
        </p:blipFill>
        <p:spPr>
          <a:xfrm>
            <a:off x="3240" y="0"/>
            <a:ext cx="32400720" cy="4436892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1"/>
          <p:cNvSpPr/>
          <p:nvPr/>
        </p:nvSpPr>
        <p:spPr>
          <a:xfrm>
            <a:off x="4770360" y="40294080"/>
            <a:ext cx="7350120" cy="367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240" rIns="219240" tIns="109800" bIns="109800" anchor="ctr">
            <a:noAutofit/>
          </a:bodyPr>
          <a:p>
            <a:pPr algn="ctr">
              <a:tabLst>
                <a:tab algn="l" pos="0"/>
                <a:tab algn="l" pos="4316400"/>
                <a:tab algn="l" pos="8632800"/>
              </a:tabLst>
            </a:pPr>
            <a:endParaRPr b="0" lang="en-US" sz="8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Imagem 2" descr=""/>
          <p:cNvPicPr/>
          <p:nvPr/>
        </p:nvPicPr>
        <p:blipFill>
          <a:blip r:embed="rId2"/>
          <a:stretch/>
        </p:blipFill>
        <p:spPr>
          <a:xfrm>
            <a:off x="5324400" y="40358880"/>
            <a:ext cx="6796080" cy="3232440"/>
          </a:xfrm>
          <a:prstGeom prst="rect">
            <a:avLst/>
          </a:prstGeom>
          <a:ln w="0">
            <a:noFill/>
          </a:ln>
        </p:spPr>
      </p:pic>
      <p:sp>
        <p:nvSpPr>
          <p:cNvPr id="44" name="Retângulo 2"/>
          <p:cNvSpPr/>
          <p:nvPr/>
        </p:nvSpPr>
        <p:spPr>
          <a:xfrm>
            <a:off x="720720" y="40294080"/>
            <a:ext cx="4049640" cy="262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316400"/>
                <a:tab algn="l" pos="8632800"/>
              </a:tabLst>
            </a:pPr>
            <a:endParaRPr b="0" lang="en-US" sz="8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1081080" y="40646520"/>
            <a:ext cx="351468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9:49:00Z</dcterms:created>
  <dc:creator>Jacky</dc:creator>
  <dc:description/>
  <dc:language>en-US</dc:language>
  <cp:lastModifiedBy>Vanessa Sales Machado</cp:lastModifiedBy>
  <dcterms:modified xsi:type="dcterms:W3CDTF">2015-04-14T15:51:10Z</dcterms:modified>
  <cp:revision>6</cp:revision>
  <dc:subject/>
  <dc:title>PowerPoint 演示文稿</dc:title>
</cp:coreProperties>
</file>