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802-7556-491B-A2E9-49F17A6C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584-EB31-4F48-81AC-61FA088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9E0-B61F-45F5-9394-1A0B3296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1E8-880B-404D-9F93-6FAF2D5A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937-F4E1-4E09-AF22-0F296FFB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A32-3D33-4204-8A0F-93AEF67A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891-AFB5-4196-BA54-F851234F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B4B-D208-44CB-81DC-F3400A4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5D8-8E6B-4366-988A-A4E388B7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A4C-7905-499B-AD8A-E790E258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B6E-ED86-4478-9BAD-328C5851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F57-D5CF-49AA-A36D-5C3A4F1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764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4BBA-C5DE-4757-8ED6-D7CDAA20EEF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90C2-D267-4D31-A6AC-7EFCEBE2CAE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m 10" descr="fundo_ppt_imrea_alta.jpg"/>
          <p:cNvPicPr/>
          <p:nvPr/>
        </p:nvPicPr>
        <p:blipFill>
          <a:blip r:embed="rId2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tângulo 1"/>
          <p:cNvSpPr/>
          <p:nvPr/>
        </p:nvSpPr>
        <p:spPr>
          <a:xfrm>
            <a:off x="539640" y="0"/>
            <a:ext cx="936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84360" y="139680"/>
            <a:ext cx="949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8:52:48Z</dcterms:created>
  <dc:creator>Silvia Yamamoto</dc:creator>
  <dc:description/>
  <dc:language>en-US</dc:language>
  <cp:lastModifiedBy>Vanessa Sales Machado</cp:lastModifiedBy>
  <dcterms:modified xsi:type="dcterms:W3CDTF">2015-04-14T15:49:38Z</dcterms:modified>
  <cp:revision>79</cp:revision>
  <dc:subject/>
  <dc:title>Apresentação do PowerPoint</dc:title>
</cp:coreProperties>
</file>