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3EDD-757D-4CD2-880C-773585CF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F735-6238-43D1-85AB-1F9625A3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ED98-F699-4C52-8E2B-F45E7EF5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B4AE-6880-4F56-9522-C6C0A7C4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6898-3730-499A-9C82-3EE11BC0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2E0A-716D-4923-974E-165E95F5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6BD7-FD1C-4954-8D8C-13B513A7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CCC2-4682-4FBB-9039-653D34DE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AC38-5B60-46BF-95A8-C20C8624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C73C-4907-40AF-ADA6-F36C6B24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8A28-655C-4AE2-94A4-B12A59C6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D5D-F088-4A3C-B8C7-78BA5766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77EB-2E54-4E12-95EC-7970A7CD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B81A-2096-4B5B-B06B-71F666CC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7FBD-360B-44A6-9E55-9901DEEA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1B8F-78CF-4903-BFAD-D8B863D5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DC29-08B9-44BD-965E-BECEE070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B25C2-5E25-4812-BC55-247A9AC9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69790-F1FA-4195-899B-9927324B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CC081-C2C0-4D5D-AE74-C2662943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47055-31BE-4A0E-8556-4F66AF52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A1AA5-F978-4755-944F-98A5F8A8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D30-A4B7-477B-8181-3B35CD19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BC809-9C0F-4998-B496-4161CEA7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B7989-BC37-4A63-86AE-75C9CCA8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0EB2E-BE80-4F1F-B8F6-59693B28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5F94A-66D8-4FB5-8C14-8FB76E86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44F1A-6A7E-4F7E-B427-36EFE083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A0CB4-14F3-4647-83C5-B83FC923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46A01-077F-4B98-B1F3-9655BC56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C54BB-7853-419B-95B0-761947C2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DA6FF-C516-4AA4-9AD5-29039498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B0DF1-340B-4515-B7A7-7EEB256C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6B15-B040-4CAD-A65A-15C48F1A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A850D-9EA1-4DA5-A980-A135A8E7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7F3BE-7664-4CEF-BCC3-D3A09E5C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01308-D544-4101-8B08-29BC0D87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E90CF-D3EA-45A8-B3CC-B7E9F52B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34FC8-211E-45EC-9F2B-6E5F433E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7129F-6A68-4375-ABA9-AB93FC6C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16A4F-EDB7-483B-AA81-8234A313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77221-2D66-4AE6-8F80-36CA86B3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EF7BB-75B6-4103-950C-D297E703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EA5E-8BCB-44E7-BCE4-E81244FA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74C-D185-4206-96FC-6753E5BD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F6F-6C88-4756-9581-6D2C0E20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AD7-44A7-4271-9F1C-55ADFF48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CDB-4C0D-42D6-99B5-2A720E4C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AB90-1BEA-47BA-A027-8248C3F8E39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upo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" name="Picture 4" descr="C:\Users\Tiago Rêgo\Documents\Instituto de Reabilitação Lucy Montoro\Imagens\Logomarca\Logomarca RLM.gif"/>
            <p:cNvPicPr/>
            <p:nvPr/>
          </p:nvPicPr>
          <p:blipFill>
            <a:blip r:embed="rId2"/>
            <a:stretch/>
          </p:blipFill>
          <p:spPr>
            <a:xfrm>
              <a:off x="7150680" y="127800"/>
              <a:ext cx="1816560" cy="78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5" descr="C:\Users\Tiago Rêgo\Documents\Instituto de Reabilitação Lucy Montoro\Imagens\Tira.jp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28400" cy="68580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8" name="Picture 5" descr="C:\Users\Tiago Rêgo\Documents\Instituto de Reabilitação Lucy Montoro\Imagens\Tira.jpg"/>
            <p:cNvPicPr/>
            <p:nvPr/>
          </p:nvPicPr>
          <p:blipFill>
            <a:blip r:embed="rId4"/>
            <a:stretch/>
          </p:blipFill>
          <p:spPr>
            <a:xfrm>
              <a:off x="9072720" y="0"/>
              <a:ext cx="712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Retângulo de cantos arredondados 10"/>
          <p:cNvSpPr/>
          <p:nvPr/>
        </p:nvSpPr>
        <p:spPr>
          <a:xfrm>
            <a:off x="4500720" y="6165720"/>
            <a:ext cx="4500360" cy="66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6" descr="logo_gov_saude"/>
          <p:cNvPicPr/>
          <p:nvPr/>
        </p:nvPicPr>
        <p:blipFill>
          <a:blip r:embed="rId5"/>
          <a:stretch/>
        </p:blipFill>
        <p:spPr>
          <a:xfrm>
            <a:off x="7956720" y="6197760"/>
            <a:ext cx="828360" cy="576000"/>
          </a:xfrm>
          <a:prstGeom prst="rect">
            <a:avLst/>
          </a:prstGeom>
          <a:ln w="0">
            <a:noFill/>
          </a:ln>
        </p:spPr>
      </p:pic>
      <p:pic>
        <p:nvPicPr>
          <p:cNvPr id="11" name="Imagem 1" descr=""/>
          <p:cNvPicPr/>
          <p:nvPr/>
        </p:nvPicPr>
        <p:blipFill>
          <a:blip r:embed="rId6"/>
          <a:stretch/>
        </p:blipFill>
        <p:spPr>
          <a:xfrm>
            <a:off x="6632640" y="6348240"/>
            <a:ext cx="747720" cy="39384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9" descr=""/>
          <p:cNvPicPr/>
          <p:nvPr/>
        </p:nvPicPr>
        <p:blipFill>
          <a:blip r:embed="rId7"/>
          <a:stretch/>
        </p:blipFill>
        <p:spPr>
          <a:xfrm>
            <a:off x="755640" y="6454800"/>
            <a:ext cx="3390840" cy="181080"/>
          </a:xfrm>
          <a:prstGeom prst="rect">
            <a:avLst/>
          </a:prstGeom>
          <a:ln w="0">
            <a:noFill/>
          </a:ln>
        </p:spPr>
      </p:pic>
      <p:pic>
        <p:nvPicPr>
          <p:cNvPr id="13" name="Imagem 1" descr=""/>
          <p:cNvPicPr/>
          <p:nvPr/>
        </p:nvPicPr>
        <p:blipFill>
          <a:blip r:embed="rId8"/>
          <a:stretch/>
        </p:blipFill>
        <p:spPr>
          <a:xfrm>
            <a:off x="4716360" y="6308640"/>
            <a:ext cx="147348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A4DB-5591-40D1-95E1-0D0CAFFDDE9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F761-F1A9-46BE-B5E0-4B1DE2F0203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3368-8BC0-41CF-8DCA-FF5A54D97FB0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tângulo 3"/>
          <p:cNvSpPr/>
          <p:nvPr/>
        </p:nvSpPr>
        <p:spPr>
          <a:xfrm>
            <a:off x="8101080" y="6200640"/>
            <a:ext cx="574560" cy="6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magem 2" descr=""/>
          <p:cNvPicPr/>
          <p:nvPr/>
        </p:nvPicPr>
        <p:blipFill>
          <a:blip r:embed="rId1"/>
          <a:stretch/>
        </p:blipFill>
        <p:spPr>
          <a:xfrm>
            <a:off x="7596360" y="6308640"/>
            <a:ext cx="1319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7:12:02Z</dcterms:created>
  <dc:creator>mrizzo</dc:creator>
  <dc:description/>
  <dc:language>en-US</dc:language>
  <cp:lastModifiedBy>Raphael Santos Freire</cp:lastModifiedBy>
  <dcterms:modified xsi:type="dcterms:W3CDTF">2014-07-11T19:15:18Z</dcterms:modified>
  <cp:revision>162</cp:revision>
  <dc:subject/>
  <dc:title>Slide 1</dc:title>
</cp:coreProperties>
</file>