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4F8-7C6E-48A7-9AF6-E0E141A2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EDF-552A-4778-A920-63F0E0C7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D6F-99E4-401C-B0DC-9B166656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2AC-B85A-41AF-A2F6-9A8A7884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1FA1-02CC-406C-ADDD-BEBE8F88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CD2B-8328-40B3-B3D8-9A78ED1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7989-1688-4109-9C72-EB48538E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F611-77E8-4A59-A71B-DEF914A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343C-039A-4C3C-AAF6-10880F36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3C57-EBE7-4258-A6F6-12D62008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C998-3793-4072-9A75-CF36BCB3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81F-D2F0-44EF-9A4D-9606E533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E72-8989-4B55-8C42-04C2842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677-349D-4785-A77B-2892390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4A2E-DD21-4DF4-AB36-9552D569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AF0-9248-4BAF-AB0B-B1030B52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B4D4-3CF2-4F6B-896C-15657E38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308C-921B-4B97-83AA-A3F75CEF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5547-78C4-46C2-A97A-B44666D2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DA57-0DD5-4968-B897-EF782682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5111-D74C-43AD-91AA-C5109956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59DB-2554-4269-AF1D-B3676694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26F-3A3B-42DF-9FB5-2E2D6531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4DE0-88EC-49ED-B1F7-618ED72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7DDF-D684-4138-9DAC-6FD1F9E1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29F6-27F7-4278-A28E-36EC3C6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5269-DCF4-4FE0-B953-A480190A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1D83-A959-41DC-9FC4-08D0EB5A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261E-35A4-4E53-9EC7-0579D167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313C-FAEF-46DC-9E59-ABD92B7B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DCA3-DA2C-4642-AC6C-F83A17B7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4E137-F902-494A-AB76-F8541C7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738BD-99AA-4AC7-BB8B-04F4448B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CD9-E3A3-4CC2-9A4D-7277AC4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A7FE-0D58-4D53-BA8B-883D11F8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58F8-4D60-43D8-BC45-E9CE55AB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F965-96C4-4C1A-BE8E-C277A71B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0DBD-15B1-457A-8627-C0E95868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FEB4-0A2E-47B3-B8E3-C348CDE5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65F9-5CDB-4839-82B2-38014857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5E36-5DF9-4BB5-AED5-27386C4B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F473-A0DC-45C7-9999-F5A5A110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30EA-0260-427D-8793-746AA72F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B40-3814-47E6-89D5-1215BD4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995-8390-4208-90AE-D592CE7A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7F8-40F9-4DF0-A798-B7BFB14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5EA-796E-428F-815F-57CBA384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110-DCDB-47D6-960D-C640307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594-A06B-4341-9803-5FD746039C2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upo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4" descr="C:\Users\Tiago Rêgo\Documents\Instituto de Reabilitação Lucy Montoro\Imagens\Logomarca\Logomarca RLM.gif"/>
            <p:cNvPicPr/>
            <p:nvPr/>
          </p:nvPicPr>
          <p:blipFill>
            <a:blip r:embed="rId2"/>
            <a:stretch/>
          </p:blipFill>
          <p:spPr>
            <a:xfrm>
              <a:off x="7150680" y="127800"/>
              <a:ext cx="1816560" cy="7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" descr="C:\Users\Tiago Rêgo\Documents\Instituto de Reabilitação Lucy Montoro\Imagens\Tira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28400" cy="6858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" name="Picture 5" descr="C:\Users\Tiago Rêgo\Documents\Instituto de Reabilitação Lucy Montoro\Imagens\Tira.jpg"/>
            <p:cNvPicPr/>
            <p:nvPr/>
          </p:nvPicPr>
          <p:blipFill>
            <a:blip r:embed="rId4"/>
            <a:stretch/>
          </p:blipFill>
          <p:spPr>
            <a:xfrm>
              <a:off x="9072720" y="0"/>
              <a:ext cx="71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tângulo de cantos arredondados 10"/>
          <p:cNvSpPr/>
          <p:nvPr/>
        </p:nvSpPr>
        <p:spPr>
          <a:xfrm>
            <a:off x="4500720" y="6165720"/>
            <a:ext cx="4500360" cy="66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6" descr="logo_gov_saude"/>
          <p:cNvPicPr/>
          <p:nvPr/>
        </p:nvPicPr>
        <p:blipFill>
          <a:blip r:embed="rId5"/>
          <a:stretch/>
        </p:blipFill>
        <p:spPr>
          <a:xfrm>
            <a:off x="7956720" y="6197760"/>
            <a:ext cx="828360" cy="576000"/>
          </a:xfrm>
          <a:prstGeom prst="rect">
            <a:avLst/>
          </a:prstGeom>
          <a:ln w="0">
            <a:noFill/>
          </a:ln>
        </p:spPr>
      </p:pic>
      <p:pic>
        <p:nvPicPr>
          <p:cNvPr id="11" name="Imagem 1" descr=""/>
          <p:cNvPicPr/>
          <p:nvPr/>
        </p:nvPicPr>
        <p:blipFill>
          <a:blip r:embed="rId6"/>
          <a:stretch/>
        </p:blipFill>
        <p:spPr>
          <a:xfrm>
            <a:off x="6632640" y="6348240"/>
            <a:ext cx="747720" cy="3938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" descr=""/>
          <p:cNvPicPr/>
          <p:nvPr/>
        </p:nvPicPr>
        <p:blipFill>
          <a:blip r:embed="rId7"/>
          <a:stretch/>
        </p:blipFill>
        <p:spPr>
          <a:xfrm>
            <a:off x="755640" y="6454800"/>
            <a:ext cx="3390840" cy="181080"/>
          </a:xfrm>
          <a:prstGeom prst="rect">
            <a:avLst/>
          </a:prstGeom>
          <a:ln w="0">
            <a:noFill/>
          </a:ln>
        </p:spPr>
      </p:pic>
      <p:pic>
        <p:nvPicPr>
          <p:cNvPr id="13" name="Imagem 1" descr=""/>
          <p:cNvPicPr/>
          <p:nvPr/>
        </p:nvPicPr>
        <p:blipFill>
          <a:blip r:embed="rId8"/>
          <a:stretch/>
        </p:blipFill>
        <p:spPr>
          <a:xfrm>
            <a:off x="4716360" y="6308640"/>
            <a:ext cx="147348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4F02-EB2D-4689-AC55-1D4B734DF10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AC7-7516-4F59-95F7-672B11533CC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644-B014-435C-BE60-F264FCAE500F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tângulo 3"/>
          <p:cNvSpPr/>
          <p:nvPr/>
        </p:nvSpPr>
        <p:spPr>
          <a:xfrm>
            <a:off x="8101080" y="6200640"/>
            <a:ext cx="57456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2" descr=""/>
          <p:cNvPicPr/>
          <p:nvPr/>
        </p:nvPicPr>
        <p:blipFill>
          <a:blip r:embed="rId1"/>
          <a:stretch/>
        </p:blipFill>
        <p:spPr>
          <a:xfrm>
            <a:off x="7596360" y="6308640"/>
            <a:ext cx="13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2:02Z</dcterms:created>
  <dc:creator>mrizzo</dc:creator>
  <dc:description/>
  <dc:language>en-US</dc:language>
  <cp:lastModifiedBy>Raphael Santos Freire</cp:lastModifiedBy>
  <dcterms:modified xsi:type="dcterms:W3CDTF">2014-07-11T19:15:18Z</dcterms:modified>
  <cp:revision>162</cp:revision>
  <dc:subject/>
  <dc:title>Slide 1</dc:title>
</cp:coreProperties>
</file>