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139-80D6-430A-B088-1E76A152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8920" y="2497608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F44-8DBA-4254-8AED-BDF3C5D2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2B5-E965-41BD-AF03-26A76D7A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968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396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892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968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6080"/>
            <a:ext cx="939096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70D-F29A-4681-B979-FA7CBC06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821-C6FD-4B45-B53C-2D325FA5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979-C8A6-4967-94EF-3274A6F7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E1A-3D01-4826-AABA-823C44D2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69C-1044-4962-989D-23A3F496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8920" y="1728360"/>
            <a:ext cx="29165400" cy="333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DD4-677A-49B3-9CD4-3365AD4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D82-8095-4C99-B7D8-FF3DB57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608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92B-D576-4C9D-9498-6279D3B5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892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3960"/>
            <a:ext cx="142326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8920" y="24976080"/>
            <a:ext cx="29165400" cy="13599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16400"/>
                <a:tab algn="l" pos="86328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89A-939F-4C85-BA7F-92EB1A13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8920" y="1728360"/>
            <a:ext cx="29165400" cy="7202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6400"/>
                <a:tab algn="l" pos="8632800"/>
              </a:tabLst>
            </a:pPr>
            <a:r>
              <a:rPr b="0" lang="en-US" sz="20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8920" y="10083960"/>
            <a:ext cx="29165400" cy="28511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7840" indent="-16178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1" marL="3510000" indent="-134640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5397480" indent="-107640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3" marL="7556400" indent="-107640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4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5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6" marL="9718560" indent="-107604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16400"/>
                <a:tab algn="l" pos="86328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8920" y="40043160"/>
            <a:ext cx="75610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>
              <a:buNone/>
              <a:tabLst>
                <a:tab algn="l" pos="0"/>
                <a:tab algn="l" pos="4316400"/>
                <a:tab algn="l" pos="8632800"/>
              </a:tabLst>
              <a:defRPr b="0" lang="zh-CN" sz="5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316400"/>
                <a:tab algn="l" pos="8632800"/>
              </a:tabLst>
            </a:pPr>
            <a:r>
              <a:rPr b="0" lang="zh-CN" sz="5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280" y="40043160"/>
            <a:ext cx="102646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>
              <a:buNone/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40043160"/>
            <a:ext cx="7561080" cy="230328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lstStyle>
            <a:lvl1pPr indent="0" algn="r">
              <a:buNone/>
              <a:tabLst>
                <a:tab algn="l" pos="0"/>
                <a:tab algn="l" pos="4316400"/>
                <a:tab algn="l" pos="8632800"/>
              </a:tabLst>
              <a:defRPr b="0" lang="zh-CN" sz="5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316400"/>
                <a:tab algn="l" pos="8632800"/>
              </a:tabLst>
            </a:pPr>
            <a:fld id="{8A7E0EE2-B54F-4921-8B7F-49EE62075B15}" type="slidenum">
              <a:rPr b="0" lang="zh-CN" sz="5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do_poster"/>
          <p:cNvPicPr/>
          <p:nvPr/>
        </p:nvPicPr>
        <p:blipFill>
          <a:blip r:embed="rId1"/>
          <a:srcRect l="14642" t="2110" r="15530" b="21767"/>
          <a:stretch/>
        </p:blipFill>
        <p:spPr>
          <a:xfrm>
            <a:off x="3240" y="0"/>
            <a:ext cx="32400720" cy="4436892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1"/>
          <p:cNvSpPr/>
          <p:nvPr/>
        </p:nvSpPr>
        <p:spPr>
          <a:xfrm>
            <a:off x="4770360" y="40294080"/>
            <a:ext cx="7350120" cy="36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240" rIns="219240" tIns="109800" bIns="109800" anchor="ctr">
            <a:noAutofit/>
          </a:bodyPr>
          <a:p>
            <a:pPr algn="ctr"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m 2" descr=""/>
          <p:cNvPicPr/>
          <p:nvPr/>
        </p:nvPicPr>
        <p:blipFill>
          <a:blip r:embed="rId2"/>
          <a:stretch/>
        </p:blipFill>
        <p:spPr>
          <a:xfrm>
            <a:off x="5324400" y="40358880"/>
            <a:ext cx="6796080" cy="3232440"/>
          </a:xfrm>
          <a:prstGeom prst="rect">
            <a:avLst/>
          </a:prstGeom>
          <a:ln w="0">
            <a:noFill/>
          </a:ln>
        </p:spPr>
      </p:pic>
      <p:sp>
        <p:nvSpPr>
          <p:cNvPr id="44" name="Retângulo 2"/>
          <p:cNvSpPr/>
          <p:nvPr/>
        </p:nvSpPr>
        <p:spPr>
          <a:xfrm>
            <a:off x="720720" y="40294080"/>
            <a:ext cx="4049640" cy="26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16400"/>
                <a:tab algn="l" pos="86328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1081080" y="40646520"/>
            <a:ext cx="35146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9:49:00Z</dcterms:created>
  <dc:creator>Jacky</dc:creator>
  <dc:description/>
  <dc:language>en-US</dc:language>
  <cp:lastModifiedBy>Vanessa Sales Machado</cp:lastModifiedBy>
  <dcterms:modified xsi:type="dcterms:W3CDTF">2015-04-14T15:51:10Z</dcterms:modified>
  <cp:revision>6</cp:revision>
  <dc:subject/>
  <dc:title>PowerPoint 演示文稿</dc:title>
</cp:coreProperties>
</file>