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ADD3-EDD8-4A1E-903E-B288D53D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A272-19B7-4850-BEA2-D1376159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9B63-12CB-4215-B62F-14FD2E5D6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7929-C7FE-434B-815E-CAED4852A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D9E2-29EB-4AED-8BE6-3D5DA938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B709-9A12-4A0F-8545-CDCC92F9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B26C-C60D-41C7-BA2B-DEC05D0F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14B6-D8EA-47DC-9028-815B1575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217A-B8D3-4569-906D-1FC23ADB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B6EC-FBDD-475C-8EA8-36AD7743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0326-BD59-4799-AF48-5AB344BE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0AC2-C7BC-47F3-A05A-0918E987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87640" y="6381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9F06-885B-4755-820C-68B417669201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1088-8482-44C5-9911-3653678C976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Imagem 10" descr="fundo_ppt_imrea_alta.jpg"/>
          <p:cNvPicPr/>
          <p:nvPr/>
        </p:nvPicPr>
        <p:blipFill>
          <a:blip r:embed="rId2"/>
          <a:stretch/>
        </p:blipFill>
        <p:spPr>
          <a:xfrm>
            <a:off x="-1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tângulo 1"/>
          <p:cNvSpPr/>
          <p:nvPr/>
        </p:nvSpPr>
        <p:spPr>
          <a:xfrm>
            <a:off x="539640" y="0"/>
            <a:ext cx="93672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684360" y="139680"/>
            <a:ext cx="9493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2T18:52:48Z</dcterms:created>
  <dc:creator>Silvia Yamamoto</dc:creator>
  <dc:description/>
  <dc:language>en-US</dc:language>
  <cp:lastModifiedBy>Vanessa Sales Machado</cp:lastModifiedBy>
  <dcterms:modified xsi:type="dcterms:W3CDTF">2015-04-14T15:49:38Z</dcterms:modified>
  <cp:revision>79</cp:revision>
  <dc:subject/>
  <dc:title>Apresentação do PowerPoint</dc:title>
</cp:coreProperties>
</file>