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E3F8-2A80-4FD1-AC84-636F8ABD6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1739-057D-414A-99B5-C09E9F41C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CA11-7FF7-47CC-BCAF-BA1DDC084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CF95-2DEF-4AC1-A510-54D84D249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57883-ED05-4112-90FF-DBD570B4F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833B0-6942-43E3-BFDC-B545774CE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B0D66-DFF9-48ED-A941-36CF0A430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128D0-486E-4361-AB39-1FC64B937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4AAFE-CEAB-4E0C-B608-376B0012D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74D38-73DB-416A-8DF9-EF6C088DE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9F44E-7C8B-4F1D-A318-A69D2958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A000-083A-4A22-88FA-A677C0B7D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3796C-684F-4518-9DDF-8A40B9EB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1D517-1D4A-4B5C-AD4A-90CA5FFD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3B5FF-9BE2-4281-AD30-4E90E6875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E3BC6-4A84-4402-981B-2185305A1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E1B1C-E97A-46FA-9DA3-02F725895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A9760-13E3-4857-B6B4-2179E7A9A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A37B9-3E9E-4851-AE81-A9944B198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BC18F-D7DF-4A15-A6A6-EF4D7DB5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31606-1751-4CF7-B1EE-6B46E3C34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B7307-95B7-4939-ADD1-82AD69FA7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8273-A4FA-4E22-8ACF-7A3BF89EC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533DD-4AED-406D-8AC0-5D4B93BBA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CAB7B-5861-4916-BD8A-3F87C5A4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E2A40-A13B-462F-A93B-3C9B2734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E4429-4167-4B07-BA7F-ACE1D2E9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C18D2-FC0F-45F0-BA47-F3023135B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E94E8-840C-4947-8628-B2EDE69FC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C0E80-CF5E-41E0-8C97-734CFFC54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45DB2-155E-4D0C-9E17-F01A254D6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E82D4-D65C-4422-8A59-A85662A21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51040-383E-41FA-B526-620E9BEE8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FCFE-793E-479F-AB12-D5854EDC7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9DECF-534B-4D5E-BD8A-29250B243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B88EE-4539-4212-9F5C-7A7C56664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433D1-66DF-489E-A21A-4D2287688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7CF46-54DF-44BC-AFF3-35F26C29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C960E-B695-456F-BBCC-D7EE1397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96927-B4EE-497B-AF6C-F13DA0AD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35A81-7473-4F01-88E0-FE78ADB83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78F22-70DA-4314-A2AB-4C51D4AAA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53E69-66E1-4A3C-9CC0-A41FC4312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AC7E-BD41-466A-A3B2-427968B42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5C5B-2978-48F2-AB77-417CB8BE1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4BF3-EB91-4400-921E-A2CC1347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E31B-4FEB-4BFC-AEF5-8556EFD4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482F-C1B1-49CB-8D27-E01603C0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F0B2-4F86-49BA-A21F-CDEE2CF64F95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upo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" name="Picture 4" descr="C:\Users\Tiago Rêgo\Documents\Instituto de Reabilitação Lucy Montoro\Imagens\Logomarca\Logomarca RLM.gif"/>
            <p:cNvPicPr/>
            <p:nvPr/>
          </p:nvPicPr>
          <p:blipFill>
            <a:blip r:embed="rId2"/>
            <a:stretch/>
          </p:blipFill>
          <p:spPr>
            <a:xfrm>
              <a:off x="7150680" y="127800"/>
              <a:ext cx="1816560" cy="78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5" descr="C:\Users\Tiago Rêgo\Documents\Instituto de Reabilitação Lucy Montoro\Imagens\Tira.jp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28400" cy="68580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8" name="Picture 5" descr="C:\Users\Tiago Rêgo\Documents\Instituto de Reabilitação Lucy Montoro\Imagens\Tira.jpg"/>
            <p:cNvPicPr/>
            <p:nvPr/>
          </p:nvPicPr>
          <p:blipFill>
            <a:blip r:embed="rId4"/>
            <a:stretch/>
          </p:blipFill>
          <p:spPr>
            <a:xfrm>
              <a:off x="9072720" y="0"/>
              <a:ext cx="7128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" name="Retângulo de cantos arredondados 10"/>
          <p:cNvSpPr/>
          <p:nvPr/>
        </p:nvSpPr>
        <p:spPr>
          <a:xfrm>
            <a:off x="4500720" y="6165720"/>
            <a:ext cx="4500360" cy="660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Picture 6" descr="logo_gov_saude"/>
          <p:cNvPicPr/>
          <p:nvPr/>
        </p:nvPicPr>
        <p:blipFill>
          <a:blip r:embed="rId5"/>
          <a:stretch/>
        </p:blipFill>
        <p:spPr>
          <a:xfrm>
            <a:off x="7956720" y="6197760"/>
            <a:ext cx="828360" cy="576000"/>
          </a:xfrm>
          <a:prstGeom prst="rect">
            <a:avLst/>
          </a:prstGeom>
          <a:ln w="0">
            <a:noFill/>
          </a:ln>
        </p:spPr>
      </p:pic>
      <p:pic>
        <p:nvPicPr>
          <p:cNvPr id="11" name="Imagem 1" descr=""/>
          <p:cNvPicPr/>
          <p:nvPr/>
        </p:nvPicPr>
        <p:blipFill>
          <a:blip r:embed="rId6"/>
          <a:stretch/>
        </p:blipFill>
        <p:spPr>
          <a:xfrm>
            <a:off x="6632640" y="6348240"/>
            <a:ext cx="747720" cy="39384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9" descr=""/>
          <p:cNvPicPr/>
          <p:nvPr/>
        </p:nvPicPr>
        <p:blipFill>
          <a:blip r:embed="rId7"/>
          <a:stretch/>
        </p:blipFill>
        <p:spPr>
          <a:xfrm>
            <a:off x="755640" y="6454800"/>
            <a:ext cx="3390840" cy="181080"/>
          </a:xfrm>
          <a:prstGeom prst="rect">
            <a:avLst/>
          </a:prstGeom>
          <a:ln w="0">
            <a:noFill/>
          </a:ln>
        </p:spPr>
      </p:pic>
      <p:pic>
        <p:nvPicPr>
          <p:cNvPr id="13" name="Imagem 1" descr=""/>
          <p:cNvPicPr/>
          <p:nvPr/>
        </p:nvPicPr>
        <p:blipFill>
          <a:blip r:embed="rId8"/>
          <a:stretch/>
        </p:blipFill>
        <p:spPr>
          <a:xfrm>
            <a:off x="4716360" y="6308640"/>
            <a:ext cx="1473480" cy="4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A88C4-E7B5-48AB-A93C-43CDEF025E7B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C9018-90AA-4EBA-BD8C-71C30E2D8181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AED08-2325-4BA1-BF4E-FA804DEB3F56}" type="slidenum">
              <a:rPr b="0" lang="pt-B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tângulo 3"/>
          <p:cNvSpPr/>
          <p:nvPr/>
        </p:nvSpPr>
        <p:spPr>
          <a:xfrm>
            <a:off x="8101080" y="6200640"/>
            <a:ext cx="574560" cy="6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Imagem 2" descr=""/>
          <p:cNvPicPr/>
          <p:nvPr/>
        </p:nvPicPr>
        <p:blipFill>
          <a:blip r:embed="rId1"/>
          <a:stretch/>
        </p:blipFill>
        <p:spPr>
          <a:xfrm>
            <a:off x="7596360" y="6308640"/>
            <a:ext cx="13190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7:12:02Z</dcterms:created>
  <dc:creator>mrizzo</dc:creator>
  <dc:description/>
  <dc:language>en-US</dc:language>
  <cp:lastModifiedBy>Raphael Santos Freire</cp:lastModifiedBy>
  <dcterms:modified xsi:type="dcterms:W3CDTF">2014-07-11T19:15:18Z</dcterms:modified>
  <cp:revision>162</cp:revision>
  <dc:subject/>
  <dc:title>Slide 1</dc:title>
</cp:coreProperties>
</file>