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8F0-D289-4BA4-8037-50EB4878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616-BAF3-473D-8ACC-6EEDB320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ACB-0A6B-4957-92DF-FFDA3128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586-5D06-4F6B-AA9A-DB030C5B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ECB8-5B73-4339-861A-8A0FE3D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125C-18F5-4EA7-83F0-7D03A64B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E8B-2302-4263-BF4A-81B78812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066-89CC-4B9B-A99E-52C45A58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DB58-AF8C-4412-8A53-4D289A4D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863E-8712-4268-8555-284D526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A8A3-5014-41FC-BFF7-9BCC629C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A8B-2991-49B4-8D17-226E0C19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5BBF-B9A9-4D71-A7AE-91E4A15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D18D-EEA5-4075-B9B0-77F0D1F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C6CB-785C-4BEC-A21A-AB38DDC7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BE7A-F39A-491F-A1B8-23288598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EE51-9E53-465E-97C1-95AFE4C1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2548-2FA7-41E0-B936-3A7D1C4C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A065-F937-4A4B-B5C6-8FE307AF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07E7-5452-4EF3-ABAD-3D160BE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E7BB-A79A-45FB-A555-14D28619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9F30-6251-4363-8FA3-EFA7AE9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90A-859E-4314-B20B-140D554A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3A2F-BB53-4E51-8D1A-5B3BAE79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CDEE-06A7-4052-84FB-C9AC304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D3C9-2902-47D7-969D-4EE85C7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BDC4-3BE2-4D2B-826B-C6EE3A4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1B8C-A36E-4105-8C43-D34EEEA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B552-5220-4E16-B400-79BC8A4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380E-D746-454B-9B0B-0717BE9C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58EE-4B38-44AF-A8CF-7E6E444D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7494-E50A-4767-9F6B-A7CCCAD9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0B26-7B7C-439A-85DA-E90959B3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A63-1721-4ACE-B5AC-6A7966E6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442F-5289-485E-AF88-2465931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C5EE-167C-4D19-8CE4-913371A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C3E3-0C1F-405D-9B69-4A86812A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331C-20ED-4E1A-8E5D-F182EA1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E668-7459-44F8-913B-2E330BC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ED31-0227-4E0E-B04C-9AF25FD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9847-27BA-4FF7-8B96-A3C309F2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66DB-A4EB-4F0C-8717-0ACDE820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AC0C-C4F9-417D-A698-B08C4302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575-8D6E-4FF3-9687-ECC6F82A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9CB-D144-44D7-B960-90742DBA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D58-0788-4633-833D-563C8692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23B-1299-45B0-98E3-4638D1C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261-2926-4C70-BF0E-B6928EA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29D5-A274-4222-8249-D1FB7C7E2EA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o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4" descr="C:\Users\Tiago Rêgo\Documents\Instituto de Reabilitação Lucy Montoro\Imagens\Logomarca\Logomarca RLM.gif"/>
            <p:cNvPicPr/>
            <p:nvPr/>
          </p:nvPicPr>
          <p:blipFill>
            <a:blip r:embed="rId2"/>
            <a:stretch/>
          </p:blipFill>
          <p:spPr>
            <a:xfrm>
              <a:off x="7150680" y="127800"/>
              <a:ext cx="1816560" cy="7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5" descr="C:\Users\Tiago Rêgo\Documents\Instituto de Reabilitação Lucy Montoro\Imagens\Tira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28400" cy="6858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" name="Picture 5" descr="C:\Users\Tiago Rêgo\Documents\Instituto de Reabilitação Lucy Montoro\Imagens\Tira.jpg"/>
            <p:cNvPicPr/>
            <p:nvPr/>
          </p:nvPicPr>
          <p:blipFill>
            <a:blip r:embed="rId4"/>
            <a:stretch/>
          </p:blipFill>
          <p:spPr>
            <a:xfrm>
              <a:off x="9072720" y="0"/>
              <a:ext cx="71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Retângulo de cantos arredondados 10"/>
          <p:cNvSpPr/>
          <p:nvPr/>
        </p:nvSpPr>
        <p:spPr>
          <a:xfrm>
            <a:off x="4500720" y="6165720"/>
            <a:ext cx="4500360" cy="6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6" descr="logo_gov_saude"/>
          <p:cNvPicPr/>
          <p:nvPr/>
        </p:nvPicPr>
        <p:blipFill>
          <a:blip r:embed="rId5"/>
          <a:stretch/>
        </p:blipFill>
        <p:spPr>
          <a:xfrm>
            <a:off x="7956720" y="6197760"/>
            <a:ext cx="828360" cy="576000"/>
          </a:xfrm>
          <a:prstGeom prst="rect">
            <a:avLst/>
          </a:prstGeom>
          <a:ln w="0">
            <a:noFill/>
          </a:ln>
        </p:spPr>
      </p:pic>
      <p:pic>
        <p:nvPicPr>
          <p:cNvPr id="11" name="Imagem 1" descr=""/>
          <p:cNvPicPr/>
          <p:nvPr/>
        </p:nvPicPr>
        <p:blipFill>
          <a:blip r:embed="rId6"/>
          <a:stretch/>
        </p:blipFill>
        <p:spPr>
          <a:xfrm>
            <a:off x="6632640" y="6348240"/>
            <a:ext cx="747720" cy="3938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" descr=""/>
          <p:cNvPicPr/>
          <p:nvPr/>
        </p:nvPicPr>
        <p:blipFill>
          <a:blip r:embed="rId7"/>
          <a:stretch/>
        </p:blipFill>
        <p:spPr>
          <a:xfrm>
            <a:off x="755640" y="6454800"/>
            <a:ext cx="3390840" cy="181080"/>
          </a:xfrm>
          <a:prstGeom prst="rect">
            <a:avLst/>
          </a:prstGeom>
          <a:ln w="0">
            <a:noFill/>
          </a:ln>
        </p:spPr>
      </p:pic>
      <p:pic>
        <p:nvPicPr>
          <p:cNvPr id="13" name="Imagem 1" descr=""/>
          <p:cNvPicPr/>
          <p:nvPr/>
        </p:nvPicPr>
        <p:blipFill>
          <a:blip r:embed="rId8"/>
          <a:stretch/>
        </p:blipFill>
        <p:spPr>
          <a:xfrm>
            <a:off x="4716360" y="6308640"/>
            <a:ext cx="14734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DFF2-08D7-4E49-960C-FD3E474B789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CE72-8A45-4264-B044-7037EE1F265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90D-2E42-4804-80E2-BEF8A70C2DD7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tângulo 3"/>
          <p:cNvSpPr/>
          <p:nvPr/>
        </p:nvSpPr>
        <p:spPr>
          <a:xfrm>
            <a:off x="8101080" y="6200640"/>
            <a:ext cx="57456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2" descr=""/>
          <p:cNvPicPr/>
          <p:nvPr/>
        </p:nvPicPr>
        <p:blipFill>
          <a:blip r:embed="rId1"/>
          <a:stretch/>
        </p:blipFill>
        <p:spPr>
          <a:xfrm>
            <a:off x="7596360" y="6308640"/>
            <a:ext cx="1319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2:02Z</dcterms:created>
  <dc:creator>mrizzo</dc:creator>
  <dc:description/>
  <dc:language>en-US</dc:language>
  <cp:lastModifiedBy>Raphael Santos Freire</cp:lastModifiedBy>
  <dcterms:modified xsi:type="dcterms:W3CDTF">2014-07-11T19:15:18Z</dcterms:modified>
  <cp:revision>162</cp:revision>
  <dc:subject/>
  <dc:title>Slide 1</dc:title>
</cp:coreProperties>
</file>